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427-F73F-43A0-81C0-5E842267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B0B-BD38-4BE8-92AF-F021DB0F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F2644-F61E-4680-998B-337C6577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805A7-EBE8-4DCD-85CA-BEEA3A46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D39B8-7A5F-4DA1-956A-C5CA33A3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D539F-6039-49E5-9E7E-B2197CB0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A995A-8D20-439A-B1AC-A76DBB04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E19F4-7B10-4721-B46E-9185A828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117A8-ECC3-4F66-A8A4-85ADB3C4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6DA2D-2B97-44A8-B036-35428423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F01AF-0C4D-4975-B05F-4A1624A6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1B417-7465-4A17-AFCA-517F0336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476-72D7-47E9-BB19-D4BC4755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799E4-2A50-4B1E-AAE6-6CB62837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351F2-3015-4421-8250-D417362B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F44F0-2372-4125-9E0E-4EE2AD6B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8EC49-268C-438C-BC83-DEB67EAF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4324C-E0B2-4913-BAA7-3E36175E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A5FE9-A0A3-4432-9C1A-B3B873D6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AE247-74A8-4998-A781-0D522123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5CFFA-1084-4116-9D6E-CF838B9B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F3322-FEBD-487C-B2F5-3D43979D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5F552-5727-4709-9BB4-591EF9AC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8C70-023C-49A4-B601-495EC3D3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3C982-93ED-4FA1-B6DB-EA53EA2C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97A16-4873-45D2-93A5-2B675FFB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91C50-3EF7-4B70-869F-B7C2D877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26AC8-D35A-4A63-BBA2-7561FDD6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7F109-2F42-4640-A3DA-648EB96B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2DE5A-A71F-4F68-A9E2-14ED3BFE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8331D-6A0A-4041-997A-17429F4C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3CFEB-03E5-45EB-AF8B-23D41164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1313A-BF62-4DDB-9764-8973888A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A4E4A-57D2-40C9-A1DE-F0440AF3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22C4-A784-4A09-BD99-AD917F98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47CEE-46CD-4942-BBC7-A56C16B7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8E20B-AA02-4ADE-8E78-81D133CB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19238-46F5-4647-9E70-3B9CE141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4CE3C-FFD2-4B63-893E-B1A81E9D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C0B1C-5060-4432-8F70-381AE028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FB530-89FF-4F82-B4DB-7CBF1368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D871D-6906-4D3C-B2D4-F789B8FD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D790E-DC75-4F0F-AE05-03C54DC0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55963-F08A-471B-8C4E-42196B8A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66BF5-2F1D-4B98-B543-81EF8BA4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7E9A-B155-4E24-B57A-2E96C70A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AFEDD-C7D1-40E6-812F-4F277ECC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0CE76-F77A-4D29-8CD8-2810CDD6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76D2D-FD90-4630-8303-EE8B784A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0160C-F915-4AC0-9EE2-9A36C584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BF286-FE7D-47CF-BBF8-55BD2624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03A98-4136-43C6-9869-8845F15B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2F3AA-9AB5-4CD2-B1FD-683D26B4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126B2-3F39-428E-8FE6-C65E4611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9F56D-89F8-4C2D-A372-C9F1521D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AFD1C-44B4-4ECC-9755-5683E032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6B12-65DE-4833-B6DA-AACB7A92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54D66-103E-4C86-BC19-A2F7D881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902BB-A2CF-4BB2-A3CE-D30A9595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9B606-9C51-45C2-A35B-11832BC4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A6574-95C5-40F6-83C8-F2D20ED5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3196D-3003-4246-B54D-C2BC4FD0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4E9E8-1633-4179-AB53-677CA3A5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02AA5-16EE-4993-AB72-B76502A1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B3360A-7B69-4D9C-83E2-97BCC145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EA99F9-C6FD-46D9-95F8-091FE58E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901EF-4E66-4442-AD00-B4F6372F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1C7D-7525-4110-96BA-F5015A7D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D9115-B078-4224-8E55-BFF29CBC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4A713-9872-43EF-B91B-722A4F1B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73CAB9-3AC2-4565-A247-0EDC1F13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2BECE-55FA-49C7-8C81-9DB20328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D3211-E413-4F35-BC5A-3DE9F8AC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3453B-C7E5-4675-8717-EB66108F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012D28-5705-4220-AF22-811231C0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C0F26-7B10-4883-9657-DAB78851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CB230-B9AF-4ACC-B134-77927423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BD99A9-EAD3-49E4-9DEF-5CB8F670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2886-06B5-479C-B7C9-32B2407B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38D640-DAF1-46F6-8C5D-EB08B651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6FD4F1-9871-43E9-A284-0266B6C3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821A4D-DBB5-47A9-AC44-5E266C09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6D2892-2984-4CF0-8655-99D96A0E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E52F9D-94A1-419F-B65D-3F152BE2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24CA8-B7E5-4C01-93B4-0474A756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274FB-C57C-4DA7-ACA0-3F4682C1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970059-3478-4678-833D-7FCC2C86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0C87F-7C72-4EEA-B805-843D8827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1B692B-D713-4E93-A322-4D0C6EEB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B570-C166-4926-AB0A-5EFCF89B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D9710-7D2C-4754-BF83-B8A7EFA9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B31D21-7E6A-48BF-8E66-D4D53CB5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35D767-79AF-4FBE-A14F-FC58EC12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EC337B-7836-46E4-89D4-178272D5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99AC5F-3070-4D29-B137-5B1637C5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4F2F66-E5BE-49C6-A2D0-C07E7993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7177B4-B1C8-4FFA-9DEC-2DD526C1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C0B108-3F93-4C0F-A789-3852459E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E8444B-D029-40FA-88F3-F9E4A041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234145-8B0D-473F-8051-93BBC597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AB71-A88F-498F-9412-8F809A5D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6D43C5-657E-4883-8246-039E9E74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57688F-DE59-4BDF-9D1B-D42EBDDE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D133BF-48D7-4A74-9E6A-E4F37FC9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2298C-BD78-4C25-AA36-80009004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E78E0F-5DD1-4D28-A805-5DCE55FE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9935C6-E81E-4D9B-9DFC-317E8AA2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F5964F-14F8-4698-827E-883D6622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6B8103-E00A-4426-A536-B1309758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415999-C821-4C6C-A95D-28218404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02B9B1-1073-4C79-A2AC-55A171D0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E01F-2CAB-49DE-925F-E3BB6DA9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594C-99D2-4DCB-9B3B-6BF0419C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E4476F-DA96-4E0D-97CE-E8B2AE9D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4CB02A-BA71-430C-BDF8-4309D9CB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556C97-C858-414A-AE78-38F7D970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82415A-64EE-4D43-B649-26DC69FF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5B0BD8-C329-4401-977D-CAAECEC1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2C94F7-CEEC-46DC-A1B1-B4A0EBC9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07A844-A28E-4A01-A138-D7180F0E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ED3651-6668-481B-8302-C49BDB70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6D8394-C2A8-48A4-AD01-5669A00B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E5234E-A299-4B24-913E-DC667C23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D555-BE26-4515-81E3-47A90F13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EE98E9-A55B-45A3-A7AB-E5DE1EFF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220DFA-FD26-4D59-BFEE-D888D61F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EEC31E-508E-466C-97D9-30861A1E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902519-F20B-447A-9CB6-8934E481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711B0-33FA-49E2-84A5-815FFB76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F59894-5D85-4A31-B4E6-D654B2C9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B0C563-3609-4E8F-831D-D7F30F1B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17ADB0-41AC-4CA1-8F99-19288A7C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E91A0E-70C3-481D-B440-29328C2A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ABF013-1777-42E6-9228-B0691DFA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B049-0874-4144-B0FC-E0D6C5F2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B2E004-A956-4499-B336-FD6DAC4A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26FA28-ED56-4A25-A82F-AED6D1F3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FEE07-B994-4AA1-85C7-A1046F4C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EC66DC-D25F-4443-B4EF-85B0674B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2892EE-66AF-480F-9FCB-85266B09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0ACD4B-519D-4090-ACA1-E591691C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E67577-12B7-43ED-904E-83C63065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86D0D9-156C-46FD-B484-98E5CF2D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7100D3-2106-4BD4-BAE7-FBAA20D5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6716A5-5905-4D28-824F-A159F0BA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06AF-EECD-49AB-A5E4-712DB7A8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5778D5-199B-4A09-BA6C-D3C853B3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F9F41A-2F6A-4B41-9CA6-E4B4CD27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FBCF86-302A-44E9-9E6C-50A9C1E3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47CFAB-B1D2-4FEB-BAA9-7203C421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FEB72F-A4F4-4B6F-ABFA-555B32E1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AF409D-11B5-495A-B821-168390BD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BE0C5C-17C2-4733-A7D8-D6590080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89F0B6-54E6-485B-8092-821A4ECA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D7F2A5-CE5E-4825-8ACF-7EE8637D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64BAF3-5573-4523-BFD3-15D5E1F4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9907-6246-4CA7-B1CA-9164D3BB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9800E4-0DA4-4F9B-BF7F-96066EF2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1A86B3-0DE0-4404-863B-FB894BE9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C29687-7763-4BB2-9031-41EB8A47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F14388-FE01-4ED1-808D-7B9EE3FF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91FFBA-907D-45CF-8BC3-4A3A30AB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E14AB4-857D-4BCD-B0E4-5C1A5F4F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AB211E-E069-458A-8DEC-8FA87B8B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A3362B-3B75-4FDF-A423-06387D87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F1F1A8-C15C-44AB-B61C-F705842B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70C60E-049B-4149-98A4-9D591354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F7018C-61D7-406C-83EA-0AF10F81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010FA4-BCCE-42AD-9904-3E6991C5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627AAA-7B3F-4B73-843E-9966DE7E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79C-D4E4-4C3C-BD9E-753C90F9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AEDC6-6440-4DA8-9D8D-EAE61348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2E121-28DA-4803-BA23-750E44E7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7801F-2AF5-4BAF-B9BA-8A8F6075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DD7-9D2E-4BC2-8798-3ED4CD16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141B2-F379-491B-BCC5-84678970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26B2C-3A6D-4BC3-BD0C-CBF21EEF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B9EBB-82D0-42B3-AA1B-1299C182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2DB83-4B71-4FC9-BABD-F217997B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5AD8A-D448-4D58-9B4F-E4E8641C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1F3AE-F3B7-488D-9837-A72869C3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0CC8C-CAEB-4762-AEEB-3EF6DB0A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BB842-31BC-4AE4-9099-F1C48E8B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10A00-D48E-464E-9360-2928CE6A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BB347-CB4E-48AD-B699-3FC3848B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CD2E-56A2-480B-9413-10FDA525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35613-131A-4039-BE2A-A7C434BB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8BB93-10B3-4BCD-9FDB-39F92C09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301BE-2DD5-4BDA-8873-A97ABD72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7CA2C-5154-4FD7-B730-4DEC5099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29153-7857-4633-8067-D06F8EA3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A527E-FE95-4941-9CC6-E4D9ABAB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80679-71C3-4A5C-AB92-357797E9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BB5F2-90AD-40D8-9A51-9042C0B9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67B2F-219E-43DD-ACC1-74310C41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5EC09-B5AD-44D5-9B6D-1EA09A9A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A82-0BE8-4096-9522-2644BA02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F2E1B-5449-48DF-AA20-C4BC5CE0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C0732-4F28-44E4-8A2E-797781E2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4A8FF-7B8F-4534-A47B-F97F0E3A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773B9-69AD-4409-8F4E-A87F969E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0A1E7-188E-4F43-85D7-8F252A6E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18A0C-338A-45F9-9129-451BDD72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0FA66-18CE-4766-A9B4-FE851613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7387B-F897-4093-874A-82FD49F3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3386D-2474-4778-BF2A-6FCF7E6C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EBB8E-B0C4-467F-84FB-9DF69C01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365-7747-4C6B-BC3C-CCA493C3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F9172-7361-4027-A6E3-022AEF99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3BFDC-CBBF-4960-9191-BCA60259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4C8D9-AD3A-404A-B955-D1EC55F0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7FFEE-5FEF-4B38-8C2E-C0CEE2A8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40929-6065-4360-9028-276A6ECE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28F78-B796-400A-A245-C58362BE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068D9-9800-45BF-BEAE-F51357E2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BF8B9-E6F7-4EEC-8AC7-418DBFFB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70DA5-23C1-4CB1-AB66-8BE135E4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0F3A8-01A6-4F8E-998B-60A60D74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517-16E1-43F6-8202-1CBEA87F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1C595-AA8F-462D-AB44-A80EA91F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628E0-049F-4188-99EA-A8E02B60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0FD69-293D-4056-A09F-8ADA3F4E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0424B-1089-46CE-B291-D8BCB906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D5B14-48D9-4CCA-941E-5CAA6070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87520-7EE5-4E76-B01D-C0387D28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B32B1-19EF-42C6-8303-E9F82B13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F9A37-D332-42DC-901C-5F45215F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286DF-5B21-4CAF-A6DA-D21D08FD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77A29-5FAD-42C0-8961-68BE1F75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EE2-3B02-42B8-BE59-F9CBE1F3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96765-F54A-45CA-A5E4-A89AB592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AB02E-FCE0-47C2-99A7-0A26D116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15331-B752-4DF8-A0AC-2CCFFCB0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780FA-4E8D-40AD-964B-EC064744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269D9-109D-48CA-8481-AE178EFE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CBEF0-2806-42B7-B1A9-1A301337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2EDBD-8813-4120-90BD-79604E6B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60CC5-23FF-4895-BBBC-29ACD769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40EE1-66AB-4C77-BC16-8C3FDD56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2B837-7178-4C51-8D68-5AB15E2C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DBD4-D3B4-49E9-A5A9-C3953B00F0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8A5D-7668-4D7C-A785-D49D8FC239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A2C6-F45F-4B9C-94DE-107ACDA7D3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6EC4-94B1-435F-BB63-6339AED5FA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7B78-74ED-473E-A8C2-242638651D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A1C4-14BD-4E9C-9E22-2E21BA105C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00F5-42E3-4D1A-AE5A-4DF77BB0E6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E25F-E4B2-4FC3-82D1-2DF08A86D1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AD9A-6389-4463-A610-85E9748C7B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E0D0-649C-440D-AEFC-EEE37E77B2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EE74-F90F-4A8F-94CB-0EA9AA98C0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9719-D73D-458A-BDE2-1B0BEAA06A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56CD-1870-48E2-80E9-D257F04447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203D-150F-4F98-B872-CF820DDA8F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0C6B-1AAB-4C3B-9A0D-0DFA5D2A8B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7A6F-DA8C-4EC4-84A9-9934D2D617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DC5C-676D-47D8-82FB-693B48298E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9089-A9C0-47D0-90AB-B85028E3BE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8EC7-38FC-4E06-A2FA-F968B09160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65D3-325F-4AB8-BB24-4E85EF9236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7A1F-B35D-40BC-AE9E-7D6E9EF560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EA44-9C62-4D5D-87CB-1EC3841C5D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7D94-B1AD-4471-969D-0202C3361A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16B3-B03A-4CFB-B15B-043600198A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D86A-C65B-4C6D-8C51-B890350A79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74C8-E420-4E0A-A583-B54475698A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54DA-2858-41C4-80FC-88A2049FCB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A871-DBC9-45CA-8E3C-A8307D1143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6F9B-9E05-4206-99C0-AF78167C37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589F-1FD6-41F4-A987-76F95556D1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10A1-3573-49F3-8128-BAF334F06C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8F2D-6272-4CF6-9918-1E94CEF57C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A1F5-EEB7-4AFA-8B1A-528118B415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3616-79A4-49F7-80CB-EC17D795BE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CF4F-7F3C-4C1D-9174-9A6866CB96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7254-1661-4DDD-AD51-0E1170E019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FD20-7773-4D83-A336-07627F6CF0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4CB0-4F84-472B-BECB-348AF70A4F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FA3A-5688-49F2-99EB-27793E6AD3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90360" y="2562120"/>
            <a:ext cx="89632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4" name="图片 13313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698508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7" name="图片 14337" descr=""/>
          <p:cNvPicPr/>
          <p:nvPr/>
        </p:nvPicPr>
        <p:blipFill>
          <a:blip r:embed="rId1"/>
          <a:stretch/>
        </p:blipFill>
        <p:spPr>
          <a:xfrm>
            <a:off x="1332000" y="825480"/>
            <a:ext cx="7176960" cy="584352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2"/>
          <a:stretch/>
        </p:blipFill>
        <p:spPr>
          <a:xfrm>
            <a:off x="1979640" y="6265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3"/>
          <a:stretch/>
        </p:blipFill>
        <p:spPr>
          <a:xfrm>
            <a:off x="3348000" y="6265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4"/>
          <a:stretch/>
        </p:blipFill>
        <p:spPr>
          <a:xfrm>
            <a:off x="4859280" y="6265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5"/>
          <a:stretch/>
        </p:blipFill>
        <p:spPr>
          <a:xfrm>
            <a:off x="6227640" y="62802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6"/>
          <a:stretch/>
        </p:blipFill>
        <p:spPr>
          <a:xfrm>
            <a:off x="7667640" y="62658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5" name="图片 15361" descr=""/>
          <p:cNvPicPr/>
          <p:nvPr/>
        </p:nvPicPr>
        <p:blipFill>
          <a:blip r:embed="rId1"/>
          <a:stretch/>
        </p:blipFill>
        <p:spPr>
          <a:xfrm>
            <a:off x="104760" y="1324080"/>
            <a:ext cx="8934480" cy="420984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3"/>
          <a:stretch/>
        </p:blipFill>
        <p:spPr>
          <a:xfrm>
            <a:off x="611280" y="48117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0" name="图片 16385" descr=""/>
          <p:cNvPicPr/>
          <p:nvPr/>
        </p:nvPicPr>
        <p:blipFill>
          <a:blip r:embed="rId1"/>
          <a:stretch/>
        </p:blipFill>
        <p:spPr>
          <a:xfrm>
            <a:off x="179280" y="1496880"/>
            <a:ext cx="8713800" cy="36943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352440" y="1484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4"/>
          <a:stretch/>
        </p:blipFill>
        <p:spPr>
          <a:xfrm>
            <a:off x="380880" y="396252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24" name="组合 22532"/>
          <p:cNvGrpSpPr/>
          <p:nvPr/>
        </p:nvGrpSpPr>
        <p:grpSpPr>
          <a:xfrm>
            <a:off x="547560" y="1413000"/>
            <a:ext cx="8048880" cy="3744720"/>
            <a:chOff x="547560" y="1413000"/>
            <a:chExt cx="8048880" cy="3744720"/>
          </a:xfrm>
        </p:grpSpPr>
        <p:pic>
          <p:nvPicPr>
            <p:cNvPr id="1025" name="图片 22529" descr=""/>
            <p:cNvPicPr/>
            <p:nvPr/>
          </p:nvPicPr>
          <p:blipFill>
            <a:blip r:embed="rId1"/>
            <a:stretch/>
          </p:blipFill>
          <p:spPr>
            <a:xfrm>
              <a:off x="3059280" y="1413000"/>
              <a:ext cx="29271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图片 22531" descr=""/>
            <p:cNvPicPr/>
            <p:nvPr/>
          </p:nvPicPr>
          <p:blipFill>
            <a:blip r:embed="rId2"/>
            <a:stretch/>
          </p:blipFill>
          <p:spPr>
            <a:xfrm>
              <a:off x="547560" y="2424240"/>
              <a:ext cx="8048880" cy="273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332000" y="2867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332000" y="3357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1332000" y="3789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1258920" y="4292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7"/>
          <a:stretch/>
        </p:blipFill>
        <p:spPr>
          <a:xfrm>
            <a:off x="1258920" y="4797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图片 21505" descr=""/>
          <p:cNvPicPr/>
          <p:nvPr/>
        </p:nvPicPr>
        <p:blipFill>
          <a:blip r:embed="rId1"/>
          <a:stretch/>
        </p:blipFill>
        <p:spPr>
          <a:xfrm>
            <a:off x="157320" y="1590840"/>
            <a:ext cx="8829360" cy="36763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826920" y="20908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826920" y="2535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82692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826920" y="34718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826920" y="3933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2" name="组合 20483"/>
          <p:cNvGrpSpPr/>
          <p:nvPr/>
        </p:nvGrpSpPr>
        <p:grpSpPr>
          <a:xfrm>
            <a:off x="179280" y="1279440"/>
            <a:ext cx="8828280" cy="4094280"/>
            <a:chOff x="179280" y="1279440"/>
            <a:chExt cx="8828280" cy="4094280"/>
          </a:xfrm>
        </p:grpSpPr>
        <p:pic>
          <p:nvPicPr>
            <p:cNvPr id="1043" name="图片 20481" descr=""/>
            <p:cNvPicPr/>
            <p:nvPr/>
          </p:nvPicPr>
          <p:blipFill>
            <a:blip r:embed="rId1"/>
            <a:stretch/>
          </p:blipFill>
          <p:spPr>
            <a:xfrm>
              <a:off x="179280" y="1279440"/>
              <a:ext cx="8591760" cy="26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图片 20482" descr=""/>
            <p:cNvPicPr/>
            <p:nvPr/>
          </p:nvPicPr>
          <p:blipFill>
            <a:blip r:embed="rId2"/>
            <a:stretch/>
          </p:blipFill>
          <p:spPr>
            <a:xfrm>
              <a:off x="625320" y="4087800"/>
              <a:ext cx="8382240" cy="128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826920" y="17398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826920" y="3141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90000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900000" y="45370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900000" y="502776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图片 8193" descr=""/>
          <p:cNvPicPr/>
          <p:nvPr/>
        </p:nvPicPr>
        <p:blipFill>
          <a:blip r:embed="rId1"/>
          <a:stretch/>
        </p:blipFill>
        <p:spPr>
          <a:xfrm>
            <a:off x="34920" y="1073160"/>
            <a:ext cx="9010800" cy="48769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2"/>
          <a:stretch/>
        </p:blipFill>
        <p:spPr>
          <a:xfrm>
            <a:off x="826920" y="3803760"/>
            <a:ext cx="1081080" cy="3204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3"/>
          <a:stretch/>
        </p:blipFill>
        <p:spPr>
          <a:xfrm>
            <a:off x="4211640" y="3817800"/>
            <a:ext cx="1297080" cy="3207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4"/>
          <a:stretch/>
        </p:blipFill>
        <p:spPr>
          <a:xfrm>
            <a:off x="8020080" y="3803760"/>
            <a:ext cx="1081080" cy="3204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5"/>
          <a:stretch/>
        </p:blipFill>
        <p:spPr>
          <a:xfrm>
            <a:off x="1692360" y="5545080"/>
            <a:ext cx="1081080" cy="3207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6"/>
          <a:stretch/>
        </p:blipFill>
        <p:spPr>
          <a:xfrm>
            <a:off x="4081320" y="5545080"/>
            <a:ext cx="108108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0" name="图片 9217" descr=""/>
          <p:cNvPicPr/>
          <p:nvPr/>
        </p:nvPicPr>
        <p:blipFill>
          <a:blip r:embed="rId1"/>
          <a:stretch/>
        </p:blipFill>
        <p:spPr>
          <a:xfrm>
            <a:off x="28440" y="1089000"/>
            <a:ext cx="9007560" cy="48783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611280" y="242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4"/>
          <a:stretch/>
        </p:blipFill>
        <p:spPr>
          <a:xfrm>
            <a:off x="684360" y="3357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5"/>
          <a:stretch/>
        </p:blipFill>
        <p:spPr>
          <a:xfrm>
            <a:off x="611280" y="4235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6"/>
          <a:stretch/>
        </p:blipFill>
        <p:spPr>
          <a:xfrm>
            <a:off x="611280" y="5157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68" name="组合 10243"/>
          <p:cNvGrpSpPr/>
          <p:nvPr/>
        </p:nvGrpSpPr>
        <p:grpSpPr>
          <a:xfrm>
            <a:off x="380880" y="885960"/>
            <a:ext cx="8382240" cy="5279760"/>
            <a:chOff x="380880" y="885960"/>
            <a:chExt cx="8382240" cy="5279760"/>
          </a:xfrm>
        </p:grpSpPr>
        <p:pic>
          <p:nvPicPr>
            <p:cNvPr id="1069" name="图片 10241" descr=""/>
            <p:cNvPicPr/>
            <p:nvPr/>
          </p:nvPicPr>
          <p:blipFill>
            <a:blip r:embed="rId1"/>
            <a:stretch/>
          </p:blipFill>
          <p:spPr>
            <a:xfrm>
              <a:off x="380880" y="885960"/>
              <a:ext cx="8382240" cy="25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图片 10242" descr=""/>
            <p:cNvPicPr/>
            <p:nvPr/>
          </p:nvPicPr>
          <p:blipFill>
            <a:blip r:embed="rId2"/>
            <a:stretch/>
          </p:blipFill>
          <p:spPr>
            <a:xfrm>
              <a:off x="766800" y="3546360"/>
              <a:ext cx="7981920" cy="261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985680" y="13082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4"/>
          <a:stretch/>
        </p:blipFill>
        <p:spPr>
          <a:xfrm>
            <a:off x="971640" y="2651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5"/>
          <a:stretch/>
        </p:blipFill>
        <p:spPr>
          <a:xfrm>
            <a:off x="971640" y="3573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6"/>
          <a:stretch/>
        </p:blipFill>
        <p:spPr>
          <a:xfrm>
            <a:off x="1042920" y="4451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7"/>
          <a:stretch/>
        </p:blipFill>
        <p:spPr>
          <a:xfrm>
            <a:off x="971640" y="53578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8" name="图片 12289" descr=""/>
          <p:cNvPicPr/>
          <p:nvPr/>
        </p:nvPicPr>
        <p:blipFill>
          <a:blip r:embed="rId1"/>
          <a:stretch/>
        </p:blipFill>
        <p:spPr>
          <a:xfrm>
            <a:off x="210960" y="1271520"/>
            <a:ext cx="8464680" cy="45338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2987640" y="3573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3"/>
          <a:stretch/>
        </p:blipFill>
        <p:spPr>
          <a:xfrm>
            <a:off x="2268360" y="4033800"/>
            <a:ext cx="360720" cy="32076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4"/>
          <a:stretch/>
        </p:blipFill>
        <p:spPr>
          <a:xfrm>
            <a:off x="2987640" y="4508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5"/>
          <a:stretch/>
        </p:blipFill>
        <p:spPr>
          <a:xfrm>
            <a:off x="2916360" y="4956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6"/>
          <a:stretch/>
        </p:blipFill>
        <p:spPr>
          <a:xfrm>
            <a:off x="3232080" y="543096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6" name="图片 11265" descr=""/>
          <p:cNvPicPr/>
          <p:nvPr/>
        </p:nvPicPr>
        <p:blipFill>
          <a:blip r:embed="rId1"/>
          <a:stretch/>
        </p:blipFill>
        <p:spPr>
          <a:xfrm>
            <a:off x="23760" y="942840"/>
            <a:ext cx="9012240" cy="510084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2"/>
          <a:stretch/>
        </p:blipFill>
        <p:spPr>
          <a:xfrm>
            <a:off x="611280" y="1355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3"/>
          <a:stretch/>
        </p:blipFill>
        <p:spPr>
          <a:xfrm>
            <a:off x="611280" y="18162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4"/>
          <a:stretch/>
        </p:blipFill>
        <p:spPr>
          <a:xfrm>
            <a:off x="611280" y="2276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5"/>
          <a:stretch/>
        </p:blipFill>
        <p:spPr>
          <a:xfrm>
            <a:off x="611280" y="2708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6"/>
          <a:stretch/>
        </p:blipFill>
        <p:spPr>
          <a:xfrm>
            <a:off x="611280" y="3141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50:43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